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448-C38D-424A-B98F-12D9432503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7E9-F24D-4996-8E81-4C53D70543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296-62D6-41E4-AD69-1ED9E33B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7A0-D598-4066-8B75-17AC802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F3-7BC7-4AC9-A841-61E7A7F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2B3-BBA6-441B-8705-8760D9C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B5E-5EE2-4873-99B1-3D7D35A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555-DCDF-4135-AD9D-71EBB30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4F0-055B-47E1-871A-9C322619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536-960B-4964-8A20-83FD3D1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211-2134-4788-A866-83627635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7A3-7745-4CEF-9D03-F944D99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ABF-2765-42D6-ABB9-15E4499D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C99-18A1-4D52-A768-A73B494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BE2-B228-4FE8-A41A-58160F9B8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组合 20" descr=""/>
          <p:cNvPicPr/>
          <p:nvPr/>
        </p:nvPicPr>
        <p:blipFill>
          <a:blip r:embed="rId1"/>
          <a:stretch/>
        </p:blipFill>
        <p:spPr>
          <a:xfrm>
            <a:off x="1011240" y="2408400"/>
            <a:ext cx="71215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2124000" y="227664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妹妹撅着两条短粗的小辫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紧紧地跟在泥裤子后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咬着唇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提着裙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轻地小心地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里却希望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摔这么痛快的一跤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0" r="0" b="13920"/>
          <a:stretch/>
        </p:blipFill>
        <p:spPr>
          <a:xfrm>
            <a:off x="2692440" y="996840"/>
            <a:ext cx="3760920" cy="110196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3"/>
          <p:cNvSpPr/>
          <p:nvPr/>
        </p:nvSpPr>
        <p:spPr>
          <a:xfrm>
            <a:off x="3149640" y="336060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6"/>
          <p:cNvSpPr/>
          <p:nvPr/>
        </p:nvSpPr>
        <p:spPr>
          <a:xfrm>
            <a:off x="2525760" y="390528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7"/>
          <p:cNvSpPr/>
          <p:nvPr/>
        </p:nvSpPr>
        <p:spPr>
          <a:xfrm>
            <a:off x="2165400" y="450864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8"/>
          <p:cNvSpPr/>
          <p:nvPr/>
        </p:nvSpPr>
        <p:spPr>
          <a:xfrm>
            <a:off x="4067280" y="501336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2158920" y="6022800"/>
            <a:ext cx="30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~~~~~~~~~~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684360" y="2079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小妹妹动作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泥裤子”是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运用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修辞方法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妹妹希望什么？用“　  ”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完选文，我知道小妹妹玩儿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4173120" y="4106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918960" y="272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584760" y="272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借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612396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非常高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880920" y="2060640"/>
            <a:ext cx="757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想一想：雨后我们还可以做些什么呢？写下来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332000" y="25891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雨停了，真好！我们到郊外野餐，我们到河边钓鱼，我们在花丛中追蝴蝶，我们在凉风中歌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900000" y="1962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仔细观察这幅图片，图片上的小姐姐在做什么？她是怎样做的？展开想象写一写，在写的时候，用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0" t="0" r="0" b="14658"/>
          <a:stretch/>
        </p:blipFill>
        <p:spPr>
          <a:xfrm>
            <a:off x="2660760" y="987480"/>
            <a:ext cx="3822480" cy="114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193920" y="3284640"/>
            <a:ext cx="30448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"/>
          <p:cNvSpPr/>
          <p:nvPr/>
        </p:nvSpPr>
        <p:spPr>
          <a:xfrm>
            <a:off x="539640" y="965160"/>
            <a:ext cx="818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b10f4"/>
                </a:solidFill>
                <a:latin typeface="黑体"/>
                <a:ea typeface="黑体"/>
              </a:rPr>
              <a:t>优秀示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洗手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星期六，阳光明媚万里无云。小红独自来到家里附近的公园散步，她从口袋掏糖果的时候，不小心把自己喜爱的小手帕掉在地上，捡起来一看，呀，弄脏啦！她着急地往家里赶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回到家里小红先端来一盆水，接着把她的小手帕放在脸盆里，然后擦了一点肥皂，开始上搓搓，下搓搓，最后用清水冲洗干净。小红的小手帕又变得干净了，她感到十分开心！小红把手帕挂在阳台上晒太阳。这时一阵微风吹来，让小手帕在它的怀抱里荡秋千，好像在说：“嗨！小手帕你可真香啊！”小手帕自豪地说：“我的小主人小红刚刚给我洗过澡呢！我正舒服着呢！”小红似乎听见了它们的对话，自言自语地说：“我是一个爱清洁讲卫生的女孩子，我的手帕自然要时时刻刻都干干净净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9T15:10:18Z</dcterms:modified>
  <cp:revision>63</cp:revision>
  <dc:subject/>
  <dc:title>PowerPoint 演示文稿</dc:title>
</cp:coreProperties>
</file>